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B537-6F38-4DA8-845F-070E9033C6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54DB-37FE-4880-9E99-DAA4625117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CE84-B3A1-40CC-92B9-371874EBF2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8766-1DF2-4673-B636-BDB24B127C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9087-7D35-4C0E-915F-1CB69644FE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396F-DDE6-4C83-B2ED-15744098C4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288B-68F5-4D83-8553-D5C262D360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89000" y="69372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3769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A600-1BFD-4476-B3EB-5C59EDA319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E77D-E746-4E32-B4BA-B2371746C2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89000" y="69372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3769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17B2-538F-4791-B2CC-294DF1827D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1857-1CB0-4EFC-8BBB-E157DFABE5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475B-93CE-4B27-8CDC-1D160FF7EE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89000" y="69372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3769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0845-278E-4CBC-9C17-ABB54E1229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23E5-F4CA-42CE-858D-F5CDD6E8A6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8DA-2F08-45C2-8A10-1C40C3F6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27D-6BEB-4964-8226-63F86E31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CAE-6A03-44F3-B717-99CA240D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DCD-AA42-42B2-A87D-FE8D32FB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9A0D-BB94-455C-A7B8-E2629953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3E62-A758-4652-BC32-285DF8F9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CDD7-D61A-4F34-AFED-4B13F79B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8DA1-0FE9-4B11-B1CD-A2BEF109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50FF-0F3F-48F5-8CC4-3F6783E3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B125-AE0B-4FB6-9AD2-B967DE3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5E80-3508-454F-940C-9EFEB8A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1E0-D298-4435-B27A-DFFD62E9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7609-2D07-4400-A087-0F10BE91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EE06-E144-46AF-BC66-202A0575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030F-A954-4DCA-AC50-B01FA972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8D28-4A95-4CC3-9A9B-BA3C6FC4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1B1D-C761-4420-9A28-D7AB8E93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9B0-6E69-4853-B880-3AAD7B9C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6CC-307E-4CA7-86A0-683A9F88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D6C-F469-4B66-97F4-3E4290EE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B42-C5B1-414F-B724-1437322B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E4D-58CB-4987-8136-D3F81EAC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C3C-D237-412C-9892-EEB159A9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918-DBE5-4DC7-B1DF-BEC71912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364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DD06-B1A8-464A-B9AF-89A7278DC2E2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Logotipo 1 tinta baja RGB"/>
          <p:cNvPicPr/>
          <p:nvPr/>
        </p:nvPicPr>
        <p:blipFill>
          <a:blip r:embed="rId3"/>
          <a:stretch/>
        </p:blipFill>
        <p:spPr>
          <a:xfrm>
            <a:off x="0" y="6167520"/>
            <a:ext cx="101592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CFDB-414E-4D45-B531-17C68D5FF55B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9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2070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7"/>
          <p:cNvSpPr/>
          <p:nvPr/>
        </p:nvSpPr>
        <p:spPr>
          <a:xfrm>
            <a:off x="0" y="1371600"/>
            <a:ext cx="399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6600"/>
                </a:solidFill>
                <a:latin typeface="Tahoma"/>
              </a:rPr>
              <a:t>Plan CEI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6600"/>
                </a:solidFill>
                <a:latin typeface="Tahoma"/>
              </a:rPr>
              <a:t>One Laptop per Child and per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9"/>
          <p:cNvSpPr/>
          <p:nvPr/>
        </p:nvSpPr>
        <p:spPr>
          <a:xfrm>
            <a:off x="0" y="60357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iguel Brechner Kigali June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2" descr="Logotipo_PLAN_CEIBAL_CMYK_alta"/>
          <p:cNvPicPr/>
          <p:nvPr/>
        </p:nvPicPr>
        <p:blipFill>
          <a:blip r:embed="rId2"/>
          <a:stretch/>
        </p:blipFill>
        <p:spPr>
          <a:xfrm>
            <a:off x="0" y="0"/>
            <a:ext cx="100800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9106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omes with computers will grow by 220.000 (20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alf ot them belong to the poorest 20%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chool attendance has grown, and class repetition has diminished very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igh motivation of teacher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arents participate actively in the School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pportunities for the development in music, video, photograpy, programming, that without Ceibal would be almost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957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s are shown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al Opportunities for the future. New individual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ho should implement it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urage is needed to do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ery year we dont do it, thousands of kids loose their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f we dont do it know, when should we do it??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27"/>
          <p:cNvSpPr/>
          <p:nvPr/>
        </p:nvSpPr>
        <p:spPr>
          <a:xfrm>
            <a:off x="179280" y="1268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n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28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SC00460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4000" y="2462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Imag"/>
          <p:cNvPicPr/>
          <p:nvPr/>
        </p:nvPicPr>
        <p:blipFill>
          <a:blip r:embed="rId1"/>
          <a:stretch/>
        </p:blipFill>
        <p:spPr>
          <a:xfrm>
            <a:off x="250920" y="1268280"/>
            <a:ext cx="2017440" cy="1516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Imag"/>
          <p:cNvPicPr/>
          <p:nvPr/>
        </p:nvPicPr>
        <p:blipFill>
          <a:blip r:embed="rId2"/>
          <a:stretch/>
        </p:blipFill>
        <p:spPr>
          <a:xfrm>
            <a:off x="2644920" y="1268280"/>
            <a:ext cx="1998360" cy="1500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100_6783_DCE"/>
          <p:cNvPicPr/>
          <p:nvPr/>
        </p:nvPicPr>
        <p:blipFill>
          <a:blip r:embed="rId3"/>
          <a:stretch/>
        </p:blipFill>
        <p:spPr>
          <a:xfrm>
            <a:off x="6877080" y="4645080"/>
            <a:ext cx="2124000" cy="159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100_6781_DCE"/>
          <p:cNvPicPr/>
          <p:nvPr/>
        </p:nvPicPr>
        <p:blipFill>
          <a:blip r:embed="rId4"/>
          <a:stretch/>
        </p:blipFill>
        <p:spPr>
          <a:xfrm>
            <a:off x="250920" y="292428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100_6745_DCE"/>
          <p:cNvPicPr/>
          <p:nvPr/>
        </p:nvPicPr>
        <p:blipFill>
          <a:blip r:embed="rId5"/>
          <a:stretch/>
        </p:blipFill>
        <p:spPr>
          <a:xfrm>
            <a:off x="250920" y="4599000"/>
            <a:ext cx="2017440" cy="1514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100_6747_DCE"/>
          <p:cNvPicPr/>
          <p:nvPr/>
        </p:nvPicPr>
        <p:blipFill>
          <a:blip r:embed="rId6"/>
          <a:stretch/>
        </p:blipFill>
        <p:spPr>
          <a:xfrm>
            <a:off x="4788000" y="1322280"/>
            <a:ext cx="1942920" cy="145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100_6749_DCE"/>
          <p:cNvPicPr/>
          <p:nvPr/>
        </p:nvPicPr>
        <p:blipFill>
          <a:blip r:embed="rId7"/>
          <a:stretch/>
        </p:blipFill>
        <p:spPr>
          <a:xfrm>
            <a:off x="2627280" y="292428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100_6693"/>
          <p:cNvPicPr/>
          <p:nvPr/>
        </p:nvPicPr>
        <p:blipFill>
          <a:blip r:embed="rId8"/>
          <a:stretch/>
        </p:blipFill>
        <p:spPr>
          <a:xfrm>
            <a:off x="2484360" y="459900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100_6776_DCE"/>
          <p:cNvPicPr/>
          <p:nvPr/>
        </p:nvPicPr>
        <p:blipFill>
          <a:blip r:embed="rId9"/>
          <a:stretch/>
        </p:blipFill>
        <p:spPr>
          <a:xfrm>
            <a:off x="6877080" y="126828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100_6782_DCE"/>
          <p:cNvPicPr/>
          <p:nvPr/>
        </p:nvPicPr>
        <p:blipFill>
          <a:blip r:embed="rId10"/>
          <a:stretch/>
        </p:blipFill>
        <p:spPr>
          <a:xfrm>
            <a:off x="4788000" y="2924280"/>
            <a:ext cx="2017440" cy="151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100_6759_DCE"/>
          <p:cNvPicPr/>
          <p:nvPr/>
        </p:nvPicPr>
        <p:blipFill>
          <a:blip r:embed="rId11"/>
          <a:stretch/>
        </p:blipFill>
        <p:spPr>
          <a:xfrm>
            <a:off x="7093080" y="2997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100_6680"/>
          <p:cNvPicPr/>
          <p:nvPr/>
        </p:nvPicPr>
        <p:blipFill>
          <a:blip r:embed="rId12"/>
          <a:stretch/>
        </p:blipFill>
        <p:spPr>
          <a:xfrm>
            <a:off x="4643280" y="4545000"/>
            <a:ext cx="2160720" cy="1620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"/>
          <p:cNvPicPr/>
          <p:nvPr/>
        </p:nvPicPr>
        <p:blipFill>
          <a:blip r:embed="rId1"/>
          <a:stretch/>
        </p:blipFill>
        <p:spPr>
          <a:xfrm>
            <a:off x="6858000" y="5181480"/>
            <a:ext cx="1908000" cy="1392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63272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marL="29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he Thre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If I am not for myself, who will be for 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If I am only for myself, what am 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If not now, when?"</a:t>
            </a:r>
            <a:r>
              <a:rPr b="0" lang="en-US" sz="2400" spc="-1" strike="noStrike" u="sng" baseline="30000">
                <a:solidFill>
                  <a:srgbClr val="e5d093"/>
                </a:solidFill>
                <a:uFillTx/>
                <a:latin typeface="-webkit-sans-serif"/>
                <a:hlinkClick r:id="rId2" action="ppaction://hlinksldjump"/>
              </a:rPr>
              <a:t>[2]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 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abbi Hillel , year 1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When will our societies be prepared for any school child of today to be an Engineer or Doctor in 2029, and a President in 20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consejo de ministros"/>
          <p:cNvPicPr/>
          <p:nvPr/>
        </p:nvPicPr>
        <p:blipFill>
          <a:blip r:embed="rId3"/>
          <a:stretch/>
        </p:blipFill>
        <p:spPr>
          <a:xfrm>
            <a:off x="0" y="5334120"/>
            <a:ext cx="216072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CEI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ta of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pulation 3.3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ze 173.000 K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vidided in 19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80% Urban 20%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ry strong Public School (85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fabetization 97%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tal number of benefici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children and teachers)   35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atin_America"/>
          <p:cNvPicPr/>
          <p:nvPr/>
        </p:nvPicPr>
        <p:blipFill>
          <a:blip r:embed="rId1"/>
          <a:stretch/>
        </p:blipFill>
        <p:spPr>
          <a:xfrm>
            <a:off x="6202440" y="3284640"/>
            <a:ext cx="294156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mag"/>
          <p:cNvPicPr/>
          <p:nvPr/>
        </p:nvPicPr>
        <p:blipFill>
          <a:blip r:embed="rId1"/>
          <a:stretch/>
        </p:blipFill>
        <p:spPr>
          <a:xfrm>
            <a:off x="7236000" y="5465880"/>
            <a:ext cx="1908000" cy="139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63272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31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llars of Plan Cei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quality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All Children &amp;Teachers in Public School get a Lap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ew tools for learning , new contents, new forms of education. Teachers teach and learn, Kids teach and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chnology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Wireless Internet Connection in Schools, Public Places and many homes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mitment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trong leadership of President Vazquez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We will not only reduce the gap of the Digital Divide, but more important we need to eliminate the Knowledge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onsejo de ministros"/>
          <p:cNvPicPr/>
          <p:nvPr/>
        </p:nvPicPr>
        <p:blipFill>
          <a:blip r:embed="rId2"/>
          <a:stretch/>
        </p:blipFill>
        <p:spPr>
          <a:xfrm>
            <a:off x="0" y="5538960"/>
            <a:ext cx="216072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789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Mai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sur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qual access to information and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the learning and education opportun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hiev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ocial inc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ves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in human capital to position Uruguay as a leader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ustainability after 2009 (0.1% GN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d people empowern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SC04304"/>
          <p:cNvPicPr/>
          <p:nvPr/>
        </p:nvPicPr>
        <p:blipFill>
          <a:blip r:embed="rId1"/>
          <a:srcRect l="4648" t="27283" r="0" b="0"/>
          <a:stretch/>
        </p:blipFill>
        <p:spPr>
          <a:xfrm>
            <a:off x="0" y="5376960"/>
            <a:ext cx="2592360" cy="1481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100_6759_DCE"/>
          <p:cNvPicPr/>
          <p:nvPr/>
        </p:nvPicPr>
        <p:blipFill>
          <a:blip r:embed="rId2"/>
          <a:stretch/>
        </p:blipFill>
        <p:spPr>
          <a:xfrm>
            <a:off x="7164360" y="5372280"/>
            <a:ext cx="1979640" cy="148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 2008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lot Ma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ivered until today 225.000 laptops, 1.250 servers, connectiity 8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 be delivered 2009, 165.000 laptops, 1000 severs, full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nectivity 300 mts maximum walk for internet (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97160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21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allel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chnology Indepen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on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acher Training and delivery of noteb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er and School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ildre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ent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ivery of notebooks to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rranty and Tec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9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100_6759_DCE"/>
          <p:cNvPicPr/>
          <p:nvPr/>
        </p:nvPicPr>
        <p:blipFill>
          <a:blip r:embed="rId1"/>
          <a:stretch/>
        </p:blipFill>
        <p:spPr>
          <a:xfrm>
            <a:off x="7093080" y="5300640"/>
            <a:ext cx="1871640" cy="14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957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ing and training teachers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ildren teach the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ents get involved and want to be tr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achers resistance is overcome once 1:1 st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chool is centre of life in t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laboration in all aspects is natural in IT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luntary work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w learning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acher motivation empowers project and n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ays to teach flour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27"/>
          <p:cNvSpPr/>
          <p:nvPr/>
        </p:nvSpPr>
        <p:spPr>
          <a:xfrm>
            <a:off x="179280" y="1268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have we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8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29" descr="cardal_1_tcp_ul"/>
          <p:cNvPicPr/>
          <p:nvPr/>
        </p:nvPicPr>
        <p:blipFill>
          <a:blip r:embed="rId1"/>
          <a:srcRect l="15318" t="2291" r="13140" b="7273"/>
          <a:stretch/>
        </p:blipFill>
        <p:spPr>
          <a:xfrm>
            <a:off x="6156360" y="4508640"/>
            <a:ext cx="266364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Children an Par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 for search of information at school an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Pictures , Video , Music &amp;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of children interaction using C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 watching by children diminis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of the Laptop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2:56:46Z</dcterms:created>
  <dc:creator>sgonzalez</dc:creator>
  <dc:description/>
  <cp:keywords/>
  <dc:language>en-US</dc:language>
  <cp:lastModifiedBy> </cp:lastModifiedBy>
  <dcterms:modified xsi:type="dcterms:W3CDTF">2009-07-06T16:44:48Z</dcterms:modified>
  <cp:revision>25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3082</vt:lpwstr>
  </property>
</Properties>
</file>